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.wmf" ContentType="image/x-wmf"/>
  <Override PartName="/ppt/media/image32.wmf" ContentType="image/x-wmf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wmf" ContentType="image/x-wmf"/>
  <Override PartName="/ppt/media/image16.jpeg" ContentType="image/jpeg"/>
  <Override PartName="/ppt/media/image35.wmf" ContentType="image/x-wmf"/>
  <Override PartName="/ppt/media/image7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37.jpeg" ContentType="image/jpeg"/>
  <Override PartName="/ppt/media/image8.wmf" ContentType="image/x-wmf"/>
  <Override PartName="/ppt/media/image38.jpeg" ContentType="image/jpeg"/>
  <Override PartName="/ppt/media/image44.jpeg" ContentType="image/jpeg"/>
  <Override PartName="/ppt/media/image39.jpeg" ContentType="image/jpeg"/>
  <Override PartName="/ppt/media/image45.jpeg" ContentType="image/jpeg"/>
  <Override PartName="/ppt/media/image14.jpeg" ContentType="image/jpeg"/>
  <Override PartName="/ppt/media/image41.jpeg" ContentType="image/jpeg"/>
  <Override PartName="/ppt/media/image42.jpeg" ContentType="image/jpeg"/>
  <Override PartName="/ppt/media/image4.wmf" ContentType="image/x-wmf"/>
  <Override PartName="/ppt/media/image34.wmf" ContentType="image/x-wmf"/>
  <Override PartName="/ppt/media/image43.jpeg" ContentType="image/jpeg"/>
  <Override PartName="/ppt/media/image12.wmf" ContentType="image/x-wmf"/>
  <Override PartName="/ppt/media/image6.wmf" ContentType="image/x-wmf"/>
  <Override PartName="/ppt/media/image10.jpeg" ContentType="image/jpe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3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1.png" ContentType="image/png"/>
  <Override PartName="/ppt/media/image3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CBF4-7A77-4F13-8FAC-55E91F12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652C-8F80-4EA3-89B3-C5B8DA12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C86-CAD4-43F9-A7FE-63B57B2B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D3EB-8832-4D10-B66D-08505D3B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0439-47E1-48DA-A0AA-75EF064D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6B5E-E575-4E11-9DA5-10409D47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10DB-8B8A-4999-A41F-642A28CC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E80B-1B6A-4504-9456-590747E2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6344-63B9-4768-AACE-C826604F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06C4-90A4-48F0-B359-EE9F456C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9974-9D6B-4A31-96F1-ED35798D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A13B-5B67-495D-B1D9-2EB9C106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4222-B516-4AAF-A2E4-A622E866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20DC-79C3-4AC3-836B-CBCA7EC4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EBEE-47EF-43F8-9888-8BEE0631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A282-44B7-43E0-A43D-8D883D18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495A-FF53-4AE3-A9F8-41E1036C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169BD-AB14-43CD-9509-9B35A9EE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F1446-157E-411A-BECB-ABE32CFA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4559D-643A-4839-ADB5-11057B2B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3527C-D145-4423-99F8-62884DCA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2D79E-40BC-4463-A9B8-9B0E6CCF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0660-0AFB-4A39-B0C5-FA490050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DC311-0720-4143-BD22-03D85B5D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8E14D-93DA-4407-99BC-CF056BC1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D0994-1E62-48BB-8DBC-FE9BDFE8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A3EA6-9ADF-4D91-A07E-CB36A9FC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048EA-4483-4EC6-9D98-4F8F9951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E6F09-2C69-4931-87CD-83404F79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B9EE3-2603-41B9-A5E8-8C9AFD26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D0C-15DB-44CF-AD13-2EDDEA47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B18C-A66F-4372-A853-3FCBD84F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AC3D-6B75-48EF-A1DC-CD4D5680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4527-0E01-4A32-BB1F-55D8902E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31E5-8142-41A2-8E08-AAD30F82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566C-77B4-425C-A1DE-960A60D4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160" y="-3240"/>
            <a:ext cx="9166320" cy="6897600"/>
            <a:chOff x="-11160" y="-3240"/>
            <a:chExt cx="9166320" cy="6897600"/>
          </a:xfrm>
        </p:grpSpPr>
        <p:grpSp>
          <p:nvGrpSpPr>
            <p:cNvPr id="1" name=""/>
            <p:cNvGrpSpPr/>
            <p:nvPr/>
          </p:nvGrpSpPr>
          <p:grpSpPr>
            <a:xfrm>
              <a:off x="-11160" y="15840"/>
              <a:ext cx="9166320" cy="6878520"/>
              <a:chOff x="-11160" y="15840"/>
              <a:chExt cx="9166320" cy="6878520"/>
            </a:xfrm>
          </p:grpSpPr>
          <p:sp>
            <p:nvSpPr>
              <p:cNvPr id="2" name=""/>
              <p:cNvSpPr/>
              <p:nvPr/>
            </p:nvSpPr>
            <p:spPr>
              <a:xfrm>
                <a:off x="-11160" y="1836720"/>
                <a:ext cx="2268720" cy="2709720"/>
              </a:xfrm>
              <a:custGeom>
                <a:avLst/>
                <a:gdLst/>
                <a:ahLst/>
                <a:rect l="l" t="t" r="r" b="b"/>
                <a:pathLst>
                  <a:path w="1429" h="1707">
                    <a:moveTo>
                      <a:pt x="808" y="283"/>
                    </a:moveTo>
                    <a:lnTo>
                      <a:pt x="673" y="252"/>
                    </a:lnTo>
                    <a:lnTo>
                      <a:pt x="654" y="0"/>
                    </a:lnTo>
                    <a:lnTo>
                      <a:pt x="488" y="13"/>
                    </a:lnTo>
                    <a:lnTo>
                      <a:pt x="476" y="252"/>
                    </a:lnTo>
                    <a:lnTo>
                      <a:pt x="365" y="290"/>
                    </a:lnTo>
                    <a:lnTo>
                      <a:pt x="206" y="86"/>
                    </a:lnTo>
                    <a:lnTo>
                      <a:pt x="95" y="148"/>
                    </a:lnTo>
                    <a:lnTo>
                      <a:pt x="200" y="376"/>
                    </a:lnTo>
                    <a:lnTo>
                      <a:pt x="126" y="450"/>
                    </a:lnTo>
                    <a:lnTo>
                      <a:pt x="0" y="423"/>
                    </a:lnTo>
                    <a:lnTo>
                      <a:pt x="0" y="1273"/>
                    </a:lnTo>
                    <a:lnTo>
                      <a:pt x="101" y="1226"/>
                    </a:lnTo>
                    <a:lnTo>
                      <a:pt x="181" y="1306"/>
                    </a:lnTo>
                    <a:lnTo>
                      <a:pt x="70" y="1509"/>
                    </a:lnTo>
                    <a:lnTo>
                      <a:pt x="175" y="1596"/>
                    </a:lnTo>
                    <a:lnTo>
                      <a:pt x="365" y="1411"/>
                    </a:lnTo>
                    <a:lnTo>
                      <a:pt x="476" y="1448"/>
                    </a:lnTo>
                    <a:lnTo>
                      <a:pt x="501" y="1700"/>
                    </a:lnTo>
                    <a:lnTo>
                      <a:pt x="667" y="1707"/>
                    </a:lnTo>
                    <a:lnTo>
                      <a:pt x="685" y="1442"/>
                    </a:lnTo>
                    <a:lnTo>
                      <a:pt x="826" y="1405"/>
                    </a:lnTo>
                    <a:lnTo>
                      <a:pt x="993" y="1590"/>
                    </a:lnTo>
                    <a:lnTo>
                      <a:pt x="1103" y="1522"/>
                    </a:lnTo>
                    <a:lnTo>
                      <a:pt x="993" y="1300"/>
                    </a:lnTo>
                    <a:lnTo>
                      <a:pt x="1067" y="1207"/>
                    </a:lnTo>
                    <a:lnTo>
                      <a:pt x="1288" y="1312"/>
                    </a:lnTo>
                    <a:lnTo>
                      <a:pt x="1355" y="1196"/>
                    </a:lnTo>
                    <a:lnTo>
                      <a:pt x="1153" y="1047"/>
                    </a:lnTo>
                    <a:lnTo>
                      <a:pt x="1177" y="918"/>
                    </a:lnTo>
                    <a:lnTo>
                      <a:pt x="1429" y="894"/>
                    </a:lnTo>
                    <a:lnTo>
                      <a:pt x="1423" y="764"/>
                    </a:lnTo>
                    <a:lnTo>
                      <a:pt x="1171" y="727"/>
                    </a:lnTo>
                    <a:lnTo>
                      <a:pt x="1146" y="629"/>
                    </a:lnTo>
                    <a:lnTo>
                      <a:pt x="1349" y="487"/>
                    </a:lnTo>
                    <a:lnTo>
                      <a:pt x="1282" y="370"/>
                    </a:lnTo>
                    <a:lnTo>
                      <a:pt x="1054" y="462"/>
                    </a:lnTo>
                    <a:lnTo>
                      <a:pt x="980" y="388"/>
                    </a:lnTo>
                    <a:lnTo>
                      <a:pt x="1097" y="173"/>
                    </a:lnTo>
                    <a:lnTo>
                      <a:pt x="986" y="105"/>
                    </a:lnTo>
                    <a:lnTo>
                      <a:pt x="808" y="28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7176b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8000" y="15840"/>
                <a:ext cx="838080" cy="787320"/>
              </a:xfrm>
              <a:custGeom>
                <a:avLst/>
                <a:gdLst/>
                <a:ahLst/>
                <a:rect l="l" t="t" r="r" b="b"/>
                <a:pathLst>
                  <a:path w="528" h="496">
                    <a:moveTo>
                      <a:pt x="335" y="56"/>
                    </a:moveTo>
                    <a:lnTo>
                      <a:pt x="293" y="46"/>
                    </a:lnTo>
                    <a:lnTo>
                      <a:pt x="288" y="0"/>
                    </a:lnTo>
                    <a:lnTo>
                      <a:pt x="238" y="0"/>
                    </a:lnTo>
                    <a:lnTo>
                      <a:pt x="232" y="46"/>
                    </a:lnTo>
                    <a:lnTo>
                      <a:pt x="198" y="58"/>
                    </a:lnTo>
                    <a:lnTo>
                      <a:pt x="146" y="0"/>
                    </a:lnTo>
                    <a:lnTo>
                      <a:pt x="114" y="14"/>
                    </a:lnTo>
                    <a:lnTo>
                      <a:pt x="147" y="84"/>
                    </a:lnTo>
                    <a:lnTo>
                      <a:pt x="124" y="107"/>
                    </a:lnTo>
                    <a:lnTo>
                      <a:pt x="50" y="81"/>
                    </a:lnTo>
                    <a:lnTo>
                      <a:pt x="32" y="109"/>
                    </a:lnTo>
                    <a:lnTo>
                      <a:pt x="90" y="159"/>
                    </a:lnTo>
                    <a:lnTo>
                      <a:pt x="80" y="197"/>
                    </a:lnTo>
                    <a:lnTo>
                      <a:pt x="2" y="202"/>
                    </a:lnTo>
                    <a:lnTo>
                      <a:pt x="0" y="244"/>
                    </a:lnTo>
                    <a:lnTo>
                      <a:pt x="80" y="256"/>
                    </a:lnTo>
                    <a:lnTo>
                      <a:pt x="88" y="292"/>
                    </a:lnTo>
                    <a:lnTo>
                      <a:pt x="29" y="345"/>
                    </a:lnTo>
                    <a:lnTo>
                      <a:pt x="50" y="378"/>
                    </a:lnTo>
                    <a:lnTo>
                      <a:pt x="116" y="347"/>
                    </a:lnTo>
                    <a:lnTo>
                      <a:pt x="141" y="372"/>
                    </a:lnTo>
                    <a:lnTo>
                      <a:pt x="107" y="435"/>
                    </a:lnTo>
                    <a:lnTo>
                      <a:pt x="139" y="462"/>
                    </a:lnTo>
                    <a:lnTo>
                      <a:pt x="198" y="404"/>
                    </a:lnTo>
                    <a:lnTo>
                      <a:pt x="232" y="416"/>
                    </a:lnTo>
                    <a:lnTo>
                      <a:pt x="240" y="494"/>
                    </a:lnTo>
                    <a:lnTo>
                      <a:pt x="292" y="496"/>
                    </a:lnTo>
                    <a:lnTo>
                      <a:pt x="297" y="414"/>
                    </a:lnTo>
                    <a:lnTo>
                      <a:pt x="341" y="403"/>
                    </a:lnTo>
                    <a:lnTo>
                      <a:pt x="393" y="460"/>
                    </a:lnTo>
                    <a:lnTo>
                      <a:pt x="427" y="439"/>
                    </a:lnTo>
                    <a:lnTo>
                      <a:pt x="393" y="370"/>
                    </a:lnTo>
                    <a:lnTo>
                      <a:pt x="416" y="341"/>
                    </a:lnTo>
                    <a:lnTo>
                      <a:pt x="484" y="374"/>
                    </a:lnTo>
                    <a:lnTo>
                      <a:pt x="505" y="338"/>
                    </a:lnTo>
                    <a:lnTo>
                      <a:pt x="442" y="292"/>
                    </a:lnTo>
                    <a:lnTo>
                      <a:pt x="450" y="252"/>
                    </a:lnTo>
                    <a:lnTo>
                      <a:pt x="528" y="244"/>
                    </a:lnTo>
                    <a:lnTo>
                      <a:pt x="526" y="204"/>
                    </a:lnTo>
                    <a:lnTo>
                      <a:pt x="448" y="193"/>
                    </a:lnTo>
                    <a:lnTo>
                      <a:pt x="440" y="162"/>
                    </a:lnTo>
                    <a:lnTo>
                      <a:pt x="503" y="119"/>
                    </a:lnTo>
                    <a:lnTo>
                      <a:pt x="482" y="82"/>
                    </a:lnTo>
                    <a:lnTo>
                      <a:pt x="412" y="111"/>
                    </a:lnTo>
                    <a:lnTo>
                      <a:pt x="389" y="88"/>
                    </a:lnTo>
                    <a:lnTo>
                      <a:pt x="425" y="21"/>
                    </a:lnTo>
                    <a:lnTo>
                      <a:pt x="391" y="0"/>
                    </a:lnTo>
                    <a:lnTo>
                      <a:pt x="335" y="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fcab4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192320" y="353880"/>
                <a:ext cx="2266920" cy="227016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2532240" y="1270080"/>
                <a:ext cx="3670200" cy="367164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240" y="4797360"/>
                <a:ext cx="3417840" cy="2097000"/>
              </a:xfrm>
              <a:custGeom>
                <a:avLst/>
                <a:gdLst/>
                <a:ahLst/>
                <a:rect l="l" t="t" r="r" b="b"/>
                <a:pathLst>
                  <a:path w="2153" h="1321">
                    <a:moveTo>
                      <a:pt x="1368" y="358"/>
                    </a:moveTo>
                    <a:lnTo>
                      <a:pt x="1197" y="318"/>
                    </a:lnTo>
                    <a:lnTo>
                      <a:pt x="1173" y="0"/>
                    </a:lnTo>
                    <a:lnTo>
                      <a:pt x="964" y="16"/>
                    </a:lnTo>
                    <a:lnTo>
                      <a:pt x="948" y="318"/>
                    </a:lnTo>
                    <a:lnTo>
                      <a:pt x="808" y="366"/>
                    </a:lnTo>
                    <a:lnTo>
                      <a:pt x="606" y="109"/>
                    </a:lnTo>
                    <a:lnTo>
                      <a:pt x="467" y="187"/>
                    </a:lnTo>
                    <a:lnTo>
                      <a:pt x="599" y="474"/>
                    </a:lnTo>
                    <a:lnTo>
                      <a:pt x="506" y="568"/>
                    </a:lnTo>
                    <a:lnTo>
                      <a:pt x="202" y="459"/>
                    </a:lnTo>
                    <a:lnTo>
                      <a:pt x="132" y="576"/>
                    </a:lnTo>
                    <a:lnTo>
                      <a:pt x="365" y="778"/>
                    </a:lnTo>
                    <a:lnTo>
                      <a:pt x="327" y="933"/>
                    </a:lnTo>
                    <a:lnTo>
                      <a:pt x="7" y="956"/>
                    </a:lnTo>
                    <a:lnTo>
                      <a:pt x="0" y="1128"/>
                    </a:lnTo>
                    <a:lnTo>
                      <a:pt x="327" y="1174"/>
                    </a:lnTo>
                    <a:lnTo>
                      <a:pt x="358" y="1321"/>
                    </a:lnTo>
                    <a:lnTo>
                      <a:pt x="1804" y="1321"/>
                    </a:lnTo>
                    <a:lnTo>
                      <a:pt x="1835" y="1158"/>
                    </a:lnTo>
                    <a:lnTo>
                      <a:pt x="2153" y="1128"/>
                    </a:lnTo>
                    <a:lnTo>
                      <a:pt x="2146" y="964"/>
                    </a:lnTo>
                    <a:lnTo>
                      <a:pt x="1827" y="917"/>
                    </a:lnTo>
                    <a:lnTo>
                      <a:pt x="1795" y="793"/>
                    </a:lnTo>
                    <a:lnTo>
                      <a:pt x="2052" y="615"/>
                    </a:lnTo>
                    <a:lnTo>
                      <a:pt x="1967" y="467"/>
                    </a:lnTo>
                    <a:lnTo>
                      <a:pt x="1679" y="583"/>
                    </a:lnTo>
                    <a:lnTo>
                      <a:pt x="1586" y="490"/>
                    </a:lnTo>
                    <a:lnTo>
                      <a:pt x="1733" y="218"/>
                    </a:lnTo>
                    <a:lnTo>
                      <a:pt x="1593" y="132"/>
                    </a:lnTo>
                    <a:lnTo>
                      <a:pt x="1368" y="358"/>
                    </a:lnTo>
                    <a:close/>
                  </a:path>
                </a:pathLst>
              </a:custGeom>
              <a:solidFill>
                <a:srgbClr val="0000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494240" y="4425840"/>
                <a:ext cx="2263680" cy="226404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646600" y="487440"/>
                <a:ext cx="2928960" cy="293040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147080" y="2556000"/>
                <a:ext cx="2008080" cy="3997080"/>
              </a:xfrm>
              <a:custGeom>
                <a:avLst/>
                <a:gdLst/>
                <a:ahLst/>
                <a:rect l="l" t="t" r="r" b="b"/>
                <a:pathLst>
                  <a:path w="1265" h="2518">
                    <a:moveTo>
                      <a:pt x="1265" y="0"/>
                    </a:moveTo>
                    <a:lnTo>
                      <a:pt x="1128" y="18"/>
                    </a:lnTo>
                    <a:lnTo>
                      <a:pt x="1110" y="372"/>
                    </a:lnTo>
                    <a:lnTo>
                      <a:pt x="946" y="428"/>
                    </a:lnTo>
                    <a:lnTo>
                      <a:pt x="710" y="127"/>
                    </a:lnTo>
                    <a:lnTo>
                      <a:pt x="546" y="219"/>
                    </a:lnTo>
                    <a:lnTo>
                      <a:pt x="701" y="555"/>
                    </a:lnTo>
                    <a:lnTo>
                      <a:pt x="592" y="665"/>
                    </a:lnTo>
                    <a:lnTo>
                      <a:pt x="237" y="537"/>
                    </a:lnTo>
                    <a:lnTo>
                      <a:pt x="155" y="674"/>
                    </a:lnTo>
                    <a:lnTo>
                      <a:pt x="427" y="911"/>
                    </a:lnTo>
                    <a:lnTo>
                      <a:pt x="383" y="1093"/>
                    </a:lnTo>
                    <a:lnTo>
                      <a:pt x="9" y="1121"/>
                    </a:lnTo>
                    <a:lnTo>
                      <a:pt x="0" y="1322"/>
                    </a:lnTo>
                    <a:lnTo>
                      <a:pt x="383" y="1376"/>
                    </a:lnTo>
                    <a:lnTo>
                      <a:pt x="419" y="1549"/>
                    </a:lnTo>
                    <a:lnTo>
                      <a:pt x="136" y="1804"/>
                    </a:lnTo>
                    <a:lnTo>
                      <a:pt x="237" y="1959"/>
                    </a:lnTo>
                    <a:lnTo>
                      <a:pt x="555" y="1813"/>
                    </a:lnTo>
                    <a:lnTo>
                      <a:pt x="674" y="1932"/>
                    </a:lnTo>
                    <a:lnTo>
                      <a:pt x="509" y="2232"/>
                    </a:lnTo>
                    <a:lnTo>
                      <a:pt x="664" y="2360"/>
                    </a:lnTo>
                    <a:lnTo>
                      <a:pt x="946" y="2087"/>
                    </a:lnTo>
                    <a:lnTo>
                      <a:pt x="1110" y="2142"/>
                    </a:lnTo>
                    <a:lnTo>
                      <a:pt x="1147" y="2515"/>
                    </a:lnTo>
                    <a:lnTo>
                      <a:pt x="1265" y="2518"/>
                    </a:lnTo>
                    <a:lnTo>
                      <a:pt x="12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5bad"/>
                  </a:gs>
                  <a:gs pos="100000">
                    <a:srgbClr val="00007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pic>
          <p:nvPicPr>
            <p:cNvPr id="10" name="" descr=""/>
            <p:cNvPicPr/>
            <p:nvPr/>
          </p:nvPicPr>
          <p:blipFill>
            <a:blip r:embed="rId2"/>
            <a:stretch/>
          </p:blipFill>
          <p:spPr>
            <a:xfrm>
              <a:off x="3240" y="-3240"/>
              <a:ext cx="803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7176bb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51DF-A002-4055-BF19-7F13E2E7657F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11160" y="-3240"/>
            <a:ext cx="9166320" cy="6897600"/>
            <a:chOff x="-11160" y="-3240"/>
            <a:chExt cx="9166320" cy="6897600"/>
          </a:xfrm>
        </p:grpSpPr>
        <p:grpSp>
          <p:nvGrpSpPr>
            <p:cNvPr id="53" name=""/>
            <p:cNvGrpSpPr/>
            <p:nvPr/>
          </p:nvGrpSpPr>
          <p:grpSpPr>
            <a:xfrm>
              <a:off x="-11160" y="-360"/>
              <a:ext cx="9166320" cy="6894720"/>
              <a:chOff x="-11160" y="-360"/>
              <a:chExt cx="9166320" cy="6894720"/>
            </a:xfrm>
          </p:grpSpPr>
          <p:sp>
            <p:nvSpPr>
              <p:cNvPr id="54" name=""/>
              <p:cNvSpPr/>
              <p:nvPr/>
            </p:nvSpPr>
            <p:spPr>
              <a:xfrm>
                <a:off x="-11160" y="1836720"/>
                <a:ext cx="2268720" cy="2709720"/>
              </a:xfrm>
              <a:custGeom>
                <a:avLst/>
                <a:gdLst/>
                <a:ahLst/>
                <a:rect l="l" t="t" r="r" b="b"/>
                <a:pathLst>
                  <a:path w="1429" h="1707">
                    <a:moveTo>
                      <a:pt x="808" y="283"/>
                    </a:moveTo>
                    <a:lnTo>
                      <a:pt x="673" y="252"/>
                    </a:lnTo>
                    <a:lnTo>
                      <a:pt x="654" y="0"/>
                    </a:lnTo>
                    <a:lnTo>
                      <a:pt x="488" y="13"/>
                    </a:lnTo>
                    <a:lnTo>
                      <a:pt x="476" y="252"/>
                    </a:lnTo>
                    <a:lnTo>
                      <a:pt x="365" y="290"/>
                    </a:lnTo>
                    <a:lnTo>
                      <a:pt x="206" y="86"/>
                    </a:lnTo>
                    <a:lnTo>
                      <a:pt x="95" y="148"/>
                    </a:lnTo>
                    <a:lnTo>
                      <a:pt x="200" y="376"/>
                    </a:lnTo>
                    <a:lnTo>
                      <a:pt x="126" y="450"/>
                    </a:lnTo>
                    <a:lnTo>
                      <a:pt x="0" y="423"/>
                    </a:lnTo>
                    <a:lnTo>
                      <a:pt x="0" y="1273"/>
                    </a:lnTo>
                    <a:lnTo>
                      <a:pt x="101" y="1226"/>
                    </a:lnTo>
                    <a:lnTo>
                      <a:pt x="181" y="1306"/>
                    </a:lnTo>
                    <a:lnTo>
                      <a:pt x="70" y="1509"/>
                    </a:lnTo>
                    <a:lnTo>
                      <a:pt x="175" y="1596"/>
                    </a:lnTo>
                    <a:lnTo>
                      <a:pt x="365" y="1411"/>
                    </a:lnTo>
                    <a:lnTo>
                      <a:pt x="476" y="1448"/>
                    </a:lnTo>
                    <a:lnTo>
                      <a:pt x="501" y="1700"/>
                    </a:lnTo>
                    <a:lnTo>
                      <a:pt x="667" y="1707"/>
                    </a:lnTo>
                    <a:lnTo>
                      <a:pt x="685" y="1442"/>
                    </a:lnTo>
                    <a:lnTo>
                      <a:pt x="826" y="1405"/>
                    </a:lnTo>
                    <a:lnTo>
                      <a:pt x="993" y="1590"/>
                    </a:lnTo>
                    <a:lnTo>
                      <a:pt x="1103" y="1522"/>
                    </a:lnTo>
                    <a:lnTo>
                      <a:pt x="993" y="1300"/>
                    </a:lnTo>
                    <a:lnTo>
                      <a:pt x="1067" y="1207"/>
                    </a:lnTo>
                    <a:lnTo>
                      <a:pt x="1288" y="1312"/>
                    </a:lnTo>
                    <a:lnTo>
                      <a:pt x="1355" y="1196"/>
                    </a:lnTo>
                    <a:lnTo>
                      <a:pt x="1153" y="1047"/>
                    </a:lnTo>
                    <a:lnTo>
                      <a:pt x="1177" y="918"/>
                    </a:lnTo>
                    <a:lnTo>
                      <a:pt x="1429" y="894"/>
                    </a:lnTo>
                    <a:lnTo>
                      <a:pt x="1423" y="764"/>
                    </a:lnTo>
                    <a:lnTo>
                      <a:pt x="1171" y="727"/>
                    </a:lnTo>
                    <a:lnTo>
                      <a:pt x="1146" y="629"/>
                    </a:lnTo>
                    <a:lnTo>
                      <a:pt x="1349" y="487"/>
                    </a:lnTo>
                    <a:lnTo>
                      <a:pt x="1282" y="370"/>
                    </a:lnTo>
                    <a:lnTo>
                      <a:pt x="1054" y="462"/>
                    </a:lnTo>
                    <a:lnTo>
                      <a:pt x="980" y="388"/>
                    </a:lnTo>
                    <a:lnTo>
                      <a:pt x="1097" y="173"/>
                    </a:lnTo>
                    <a:lnTo>
                      <a:pt x="986" y="105"/>
                    </a:lnTo>
                    <a:lnTo>
                      <a:pt x="808" y="28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7176b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08000" y="15840"/>
                <a:ext cx="838080" cy="787320"/>
              </a:xfrm>
              <a:custGeom>
                <a:avLst/>
                <a:gdLst/>
                <a:ahLst/>
                <a:rect l="l" t="t" r="r" b="b"/>
                <a:pathLst>
                  <a:path w="528" h="496">
                    <a:moveTo>
                      <a:pt x="335" y="56"/>
                    </a:moveTo>
                    <a:lnTo>
                      <a:pt x="293" y="46"/>
                    </a:lnTo>
                    <a:lnTo>
                      <a:pt x="288" y="0"/>
                    </a:lnTo>
                    <a:lnTo>
                      <a:pt x="238" y="0"/>
                    </a:lnTo>
                    <a:lnTo>
                      <a:pt x="232" y="46"/>
                    </a:lnTo>
                    <a:lnTo>
                      <a:pt x="198" y="58"/>
                    </a:lnTo>
                    <a:lnTo>
                      <a:pt x="146" y="0"/>
                    </a:lnTo>
                    <a:lnTo>
                      <a:pt x="114" y="14"/>
                    </a:lnTo>
                    <a:lnTo>
                      <a:pt x="147" y="84"/>
                    </a:lnTo>
                    <a:lnTo>
                      <a:pt x="124" y="107"/>
                    </a:lnTo>
                    <a:lnTo>
                      <a:pt x="50" y="81"/>
                    </a:lnTo>
                    <a:lnTo>
                      <a:pt x="32" y="109"/>
                    </a:lnTo>
                    <a:lnTo>
                      <a:pt x="90" y="159"/>
                    </a:lnTo>
                    <a:lnTo>
                      <a:pt x="80" y="197"/>
                    </a:lnTo>
                    <a:lnTo>
                      <a:pt x="2" y="202"/>
                    </a:lnTo>
                    <a:lnTo>
                      <a:pt x="0" y="244"/>
                    </a:lnTo>
                    <a:lnTo>
                      <a:pt x="80" y="256"/>
                    </a:lnTo>
                    <a:lnTo>
                      <a:pt x="88" y="292"/>
                    </a:lnTo>
                    <a:lnTo>
                      <a:pt x="29" y="345"/>
                    </a:lnTo>
                    <a:lnTo>
                      <a:pt x="50" y="378"/>
                    </a:lnTo>
                    <a:lnTo>
                      <a:pt x="116" y="347"/>
                    </a:lnTo>
                    <a:lnTo>
                      <a:pt x="141" y="372"/>
                    </a:lnTo>
                    <a:lnTo>
                      <a:pt x="107" y="435"/>
                    </a:lnTo>
                    <a:lnTo>
                      <a:pt x="139" y="462"/>
                    </a:lnTo>
                    <a:lnTo>
                      <a:pt x="198" y="404"/>
                    </a:lnTo>
                    <a:lnTo>
                      <a:pt x="232" y="416"/>
                    </a:lnTo>
                    <a:lnTo>
                      <a:pt x="240" y="494"/>
                    </a:lnTo>
                    <a:lnTo>
                      <a:pt x="292" y="496"/>
                    </a:lnTo>
                    <a:lnTo>
                      <a:pt x="297" y="414"/>
                    </a:lnTo>
                    <a:lnTo>
                      <a:pt x="341" y="403"/>
                    </a:lnTo>
                    <a:lnTo>
                      <a:pt x="393" y="460"/>
                    </a:lnTo>
                    <a:lnTo>
                      <a:pt x="427" y="439"/>
                    </a:lnTo>
                    <a:lnTo>
                      <a:pt x="393" y="370"/>
                    </a:lnTo>
                    <a:lnTo>
                      <a:pt x="416" y="341"/>
                    </a:lnTo>
                    <a:lnTo>
                      <a:pt x="484" y="374"/>
                    </a:lnTo>
                    <a:lnTo>
                      <a:pt x="505" y="338"/>
                    </a:lnTo>
                    <a:lnTo>
                      <a:pt x="442" y="292"/>
                    </a:lnTo>
                    <a:lnTo>
                      <a:pt x="450" y="252"/>
                    </a:lnTo>
                    <a:lnTo>
                      <a:pt x="528" y="244"/>
                    </a:lnTo>
                    <a:lnTo>
                      <a:pt x="526" y="204"/>
                    </a:lnTo>
                    <a:lnTo>
                      <a:pt x="448" y="193"/>
                    </a:lnTo>
                    <a:lnTo>
                      <a:pt x="440" y="162"/>
                    </a:lnTo>
                    <a:lnTo>
                      <a:pt x="503" y="119"/>
                    </a:lnTo>
                    <a:lnTo>
                      <a:pt x="482" y="82"/>
                    </a:lnTo>
                    <a:lnTo>
                      <a:pt x="412" y="111"/>
                    </a:lnTo>
                    <a:lnTo>
                      <a:pt x="389" y="88"/>
                    </a:lnTo>
                    <a:lnTo>
                      <a:pt x="425" y="21"/>
                    </a:lnTo>
                    <a:lnTo>
                      <a:pt x="391" y="0"/>
                    </a:lnTo>
                    <a:lnTo>
                      <a:pt x="335" y="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fcab4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192320" y="353880"/>
                <a:ext cx="2266920" cy="227016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532240" y="1270080"/>
                <a:ext cx="3670200" cy="367164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240" y="4797360"/>
                <a:ext cx="3417840" cy="2097000"/>
              </a:xfrm>
              <a:custGeom>
                <a:avLst/>
                <a:gdLst/>
                <a:ahLst/>
                <a:rect l="l" t="t" r="r" b="b"/>
                <a:pathLst>
                  <a:path w="2153" h="1321">
                    <a:moveTo>
                      <a:pt x="1368" y="358"/>
                    </a:moveTo>
                    <a:lnTo>
                      <a:pt x="1197" y="318"/>
                    </a:lnTo>
                    <a:lnTo>
                      <a:pt x="1173" y="0"/>
                    </a:lnTo>
                    <a:lnTo>
                      <a:pt x="964" y="16"/>
                    </a:lnTo>
                    <a:lnTo>
                      <a:pt x="948" y="318"/>
                    </a:lnTo>
                    <a:lnTo>
                      <a:pt x="808" y="366"/>
                    </a:lnTo>
                    <a:lnTo>
                      <a:pt x="606" y="109"/>
                    </a:lnTo>
                    <a:lnTo>
                      <a:pt x="467" y="187"/>
                    </a:lnTo>
                    <a:lnTo>
                      <a:pt x="599" y="474"/>
                    </a:lnTo>
                    <a:lnTo>
                      <a:pt x="506" y="568"/>
                    </a:lnTo>
                    <a:lnTo>
                      <a:pt x="202" y="459"/>
                    </a:lnTo>
                    <a:lnTo>
                      <a:pt x="132" y="576"/>
                    </a:lnTo>
                    <a:lnTo>
                      <a:pt x="365" y="778"/>
                    </a:lnTo>
                    <a:lnTo>
                      <a:pt x="327" y="933"/>
                    </a:lnTo>
                    <a:lnTo>
                      <a:pt x="7" y="956"/>
                    </a:lnTo>
                    <a:lnTo>
                      <a:pt x="0" y="1128"/>
                    </a:lnTo>
                    <a:lnTo>
                      <a:pt x="327" y="1174"/>
                    </a:lnTo>
                    <a:lnTo>
                      <a:pt x="358" y="1321"/>
                    </a:lnTo>
                    <a:lnTo>
                      <a:pt x="1804" y="1321"/>
                    </a:lnTo>
                    <a:lnTo>
                      <a:pt x="1835" y="1158"/>
                    </a:lnTo>
                    <a:lnTo>
                      <a:pt x="2153" y="1128"/>
                    </a:lnTo>
                    <a:lnTo>
                      <a:pt x="2146" y="964"/>
                    </a:lnTo>
                    <a:lnTo>
                      <a:pt x="1827" y="917"/>
                    </a:lnTo>
                    <a:lnTo>
                      <a:pt x="1795" y="793"/>
                    </a:lnTo>
                    <a:lnTo>
                      <a:pt x="2052" y="615"/>
                    </a:lnTo>
                    <a:lnTo>
                      <a:pt x="1967" y="467"/>
                    </a:lnTo>
                    <a:lnTo>
                      <a:pt x="1679" y="583"/>
                    </a:lnTo>
                    <a:lnTo>
                      <a:pt x="1586" y="490"/>
                    </a:lnTo>
                    <a:lnTo>
                      <a:pt x="1733" y="218"/>
                    </a:lnTo>
                    <a:lnTo>
                      <a:pt x="1593" y="132"/>
                    </a:lnTo>
                    <a:lnTo>
                      <a:pt x="1368" y="358"/>
                    </a:lnTo>
                    <a:close/>
                  </a:path>
                </a:pathLst>
              </a:custGeom>
              <a:solidFill>
                <a:srgbClr val="0000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494240" y="4425840"/>
                <a:ext cx="2263680" cy="226404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5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646600" y="487440"/>
                <a:ext cx="2928960" cy="2930400"/>
              </a:xfrm>
              <a:custGeom>
                <a:avLst/>
                <a:gdLst/>
                <a:ahLst/>
                <a:rect l="l" t="t" r="r" b="b"/>
                <a:pathLst>
                  <a:path w="2312" h="2313">
                    <a:moveTo>
                      <a:pt x="1469" y="384"/>
                    </a:moveTo>
                    <a:lnTo>
                      <a:pt x="1285" y="342"/>
                    </a:lnTo>
                    <a:lnTo>
                      <a:pt x="1260" y="0"/>
                    </a:lnTo>
                    <a:lnTo>
                      <a:pt x="1035" y="17"/>
                    </a:lnTo>
                    <a:lnTo>
                      <a:pt x="1018" y="342"/>
                    </a:lnTo>
                    <a:lnTo>
                      <a:pt x="868" y="393"/>
                    </a:lnTo>
                    <a:lnTo>
                      <a:pt x="651" y="117"/>
                    </a:lnTo>
                    <a:lnTo>
                      <a:pt x="501" y="201"/>
                    </a:lnTo>
                    <a:lnTo>
                      <a:pt x="643" y="509"/>
                    </a:lnTo>
                    <a:lnTo>
                      <a:pt x="543" y="610"/>
                    </a:lnTo>
                    <a:lnTo>
                      <a:pt x="217" y="493"/>
                    </a:lnTo>
                    <a:lnTo>
                      <a:pt x="142" y="618"/>
                    </a:lnTo>
                    <a:lnTo>
                      <a:pt x="392" y="835"/>
                    </a:lnTo>
                    <a:lnTo>
                      <a:pt x="351" y="1002"/>
                    </a:lnTo>
                    <a:lnTo>
                      <a:pt x="8" y="1027"/>
                    </a:lnTo>
                    <a:lnTo>
                      <a:pt x="0" y="1211"/>
                    </a:lnTo>
                    <a:lnTo>
                      <a:pt x="351" y="1261"/>
                    </a:lnTo>
                    <a:lnTo>
                      <a:pt x="384" y="1419"/>
                    </a:lnTo>
                    <a:lnTo>
                      <a:pt x="125" y="1653"/>
                    </a:lnTo>
                    <a:lnTo>
                      <a:pt x="217" y="1795"/>
                    </a:lnTo>
                    <a:lnTo>
                      <a:pt x="509" y="1661"/>
                    </a:lnTo>
                    <a:lnTo>
                      <a:pt x="618" y="1770"/>
                    </a:lnTo>
                    <a:lnTo>
                      <a:pt x="467" y="2045"/>
                    </a:lnTo>
                    <a:lnTo>
                      <a:pt x="609" y="2162"/>
                    </a:lnTo>
                    <a:lnTo>
                      <a:pt x="868" y="1912"/>
                    </a:lnTo>
                    <a:lnTo>
                      <a:pt x="1018" y="1962"/>
                    </a:lnTo>
                    <a:lnTo>
                      <a:pt x="1052" y="2304"/>
                    </a:lnTo>
                    <a:lnTo>
                      <a:pt x="1277" y="2313"/>
                    </a:lnTo>
                    <a:lnTo>
                      <a:pt x="1302" y="1954"/>
                    </a:lnTo>
                    <a:lnTo>
                      <a:pt x="1494" y="1904"/>
                    </a:lnTo>
                    <a:lnTo>
                      <a:pt x="1720" y="2154"/>
                    </a:lnTo>
                    <a:lnTo>
                      <a:pt x="1870" y="2062"/>
                    </a:lnTo>
                    <a:lnTo>
                      <a:pt x="1720" y="1762"/>
                    </a:lnTo>
                    <a:lnTo>
                      <a:pt x="1820" y="1636"/>
                    </a:lnTo>
                    <a:lnTo>
                      <a:pt x="2120" y="1778"/>
                    </a:lnTo>
                    <a:lnTo>
                      <a:pt x="2212" y="1620"/>
                    </a:lnTo>
                    <a:lnTo>
                      <a:pt x="1937" y="1419"/>
                    </a:lnTo>
                    <a:lnTo>
                      <a:pt x="1970" y="1244"/>
                    </a:lnTo>
                    <a:lnTo>
                      <a:pt x="2312" y="1211"/>
                    </a:lnTo>
                    <a:lnTo>
                      <a:pt x="2304" y="1035"/>
                    </a:lnTo>
                    <a:lnTo>
                      <a:pt x="1962" y="985"/>
                    </a:lnTo>
                    <a:lnTo>
                      <a:pt x="1928" y="852"/>
                    </a:lnTo>
                    <a:lnTo>
                      <a:pt x="2204" y="660"/>
                    </a:lnTo>
                    <a:lnTo>
                      <a:pt x="2112" y="501"/>
                    </a:lnTo>
                    <a:lnTo>
                      <a:pt x="1803" y="626"/>
                    </a:lnTo>
                    <a:lnTo>
                      <a:pt x="1703" y="526"/>
                    </a:lnTo>
                    <a:lnTo>
                      <a:pt x="1861" y="234"/>
                    </a:lnTo>
                    <a:lnTo>
                      <a:pt x="1711" y="142"/>
                    </a:lnTo>
                    <a:lnTo>
                      <a:pt x="1469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7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47080" y="2556000"/>
                <a:ext cx="2008080" cy="3997080"/>
              </a:xfrm>
              <a:custGeom>
                <a:avLst/>
                <a:gdLst/>
                <a:ahLst/>
                <a:rect l="l" t="t" r="r" b="b"/>
                <a:pathLst>
                  <a:path w="1265" h="2518">
                    <a:moveTo>
                      <a:pt x="1265" y="0"/>
                    </a:moveTo>
                    <a:lnTo>
                      <a:pt x="1128" y="18"/>
                    </a:lnTo>
                    <a:lnTo>
                      <a:pt x="1110" y="372"/>
                    </a:lnTo>
                    <a:lnTo>
                      <a:pt x="946" y="428"/>
                    </a:lnTo>
                    <a:lnTo>
                      <a:pt x="710" y="127"/>
                    </a:lnTo>
                    <a:lnTo>
                      <a:pt x="546" y="219"/>
                    </a:lnTo>
                    <a:lnTo>
                      <a:pt x="701" y="555"/>
                    </a:lnTo>
                    <a:lnTo>
                      <a:pt x="592" y="665"/>
                    </a:lnTo>
                    <a:lnTo>
                      <a:pt x="237" y="537"/>
                    </a:lnTo>
                    <a:lnTo>
                      <a:pt x="155" y="674"/>
                    </a:lnTo>
                    <a:lnTo>
                      <a:pt x="427" y="911"/>
                    </a:lnTo>
                    <a:lnTo>
                      <a:pt x="383" y="1093"/>
                    </a:lnTo>
                    <a:lnTo>
                      <a:pt x="9" y="1121"/>
                    </a:lnTo>
                    <a:lnTo>
                      <a:pt x="0" y="1322"/>
                    </a:lnTo>
                    <a:lnTo>
                      <a:pt x="383" y="1376"/>
                    </a:lnTo>
                    <a:lnTo>
                      <a:pt x="419" y="1549"/>
                    </a:lnTo>
                    <a:lnTo>
                      <a:pt x="136" y="1804"/>
                    </a:lnTo>
                    <a:lnTo>
                      <a:pt x="237" y="1959"/>
                    </a:lnTo>
                    <a:lnTo>
                      <a:pt x="555" y="1813"/>
                    </a:lnTo>
                    <a:lnTo>
                      <a:pt x="674" y="1932"/>
                    </a:lnTo>
                    <a:lnTo>
                      <a:pt x="509" y="2232"/>
                    </a:lnTo>
                    <a:lnTo>
                      <a:pt x="664" y="2360"/>
                    </a:lnTo>
                    <a:lnTo>
                      <a:pt x="946" y="2087"/>
                    </a:lnTo>
                    <a:lnTo>
                      <a:pt x="1110" y="2142"/>
                    </a:lnTo>
                    <a:lnTo>
                      <a:pt x="1147" y="2515"/>
                    </a:lnTo>
                    <a:lnTo>
                      <a:pt x="1265" y="2518"/>
                    </a:lnTo>
                    <a:lnTo>
                      <a:pt x="12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5bad"/>
                  </a:gs>
                  <a:gs pos="100000">
                    <a:srgbClr val="00007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977280" y="-853200"/>
                <a:ext cx="1722600" cy="3429000"/>
              </a:xfrm>
              <a:custGeom>
                <a:avLst/>
                <a:gdLst/>
                <a:ahLst/>
                <a:rect l="l" t="t" r="r" b="b"/>
                <a:pathLst>
                  <a:path w="1265" h="2518">
                    <a:moveTo>
                      <a:pt x="1265" y="0"/>
                    </a:moveTo>
                    <a:lnTo>
                      <a:pt x="1128" y="18"/>
                    </a:lnTo>
                    <a:lnTo>
                      <a:pt x="1110" y="372"/>
                    </a:lnTo>
                    <a:lnTo>
                      <a:pt x="946" y="428"/>
                    </a:lnTo>
                    <a:lnTo>
                      <a:pt x="710" y="127"/>
                    </a:lnTo>
                    <a:lnTo>
                      <a:pt x="546" y="219"/>
                    </a:lnTo>
                    <a:lnTo>
                      <a:pt x="701" y="555"/>
                    </a:lnTo>
                    <a:lnTo>
                      <a:pt x="592" y="665"/>
                    </a:lnTo>
                    <a:lnTo>
                      <a:pt x="237" y="537"/>
                    </a:lnTo>
                    <a:lnTo>
                      <a:pt x="155" y="674"/>
                    </a:lnTo>
                    <a:lnTo>
                      <a:pt x="427" y="911"/>
                    </a:lnTo>
                    <a:lnTo>
                      <a:pt x="383" y="1093"/>
                    </a:lnTo>
                    <a:lnTo>
                      <a:pt x="9" y="1121"/>
                    </a:lnTo>
                    <a:lnTo>
                      <a:pt x="0" y="1322"/>
                    </a:lnTo>
                    <a:lnTo>
                      <a:pt x="383" y="1376"/>
                    </a:lnTo>
                    <a:lnTo>
                      <a:pt x="419" y="1549"/>
                    </a:lnTo>
                    <a:lnTo>
                      <a:pt x="136" y="1804"/>
                    </a:lnTo>
                    <a:lnTo>
                      <a:pt x="237" y="1959"/>
                    </a:lnTo>
                    <a:lnTo>
                      <a:pt x="555" y="1813"/>
                    </a:lnTo>
                    <a:lnTo>
                      <a:pt x="674" y="1932"/>
                    </a:lnTo>
                    <a:lnTo>
                      <a:pt x="509" y="2232"/>
                    </a:lnTo>
                    <a:lnTo>
                      <a:pt x="664" y="2360"/>
                    </a:lnTo>
                    <a:lnTo>
                      <a:pt x="946" y="2087"/>
                    </a:lnTo>
                    <a:lnTo>
                      <a:pt x="1110" y="2142"/>
                    </a:lnTo>
                    <a:lnTo>
                      <a:pt x="1147" y="2515"/>
                    </a:lnTo>
                    <a:lnTo>
                      <a:pt x="1265" y="2518"/>
                    </a:lnTo>
                    <a:lnTo>
                      <a:pt x="12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5bad"/>
                  </a:gs>
                  <a:gs pos="100000">
                    <a:srgbClr val="00007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3240" y="-3240"/>
              <a:ext cx="8031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C8B7-8D9E-4B87-A642-895D4FF30E79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45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7176bb"/>
              </a:buClr>
              <a:buSzPct val="45000"/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4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FAB8-9831-408D-8D96-46F90BBF7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images.google.com/imgres?imgurl=http://session2005.adventist.org/media-kit/photos/st_louis/st_louis-arch-sky_blue.jpg&amp;imgrefurl=http://session2005.adventist.org/media-kit/photos/st_louis/index.html&amp;h=3024&amp;w=2016&amp;sz=1787&amp;hl=en&amp;start=4&amp;tbnid=iWfIB4GPnEtdpM:&amp;tbnh=150&amp;tbnw=100&amp;prev=/images%3Fq%3Dst%2Blouis%2Barch%26gbv%3D2%26hl%3Den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nchgeneralstore.com/bags/img/bag.jpg&amp;imgrefurl=http://www.frenchgeneralstore.com/bags/bags.html&amp;h=550&amp;w=396&amp;sz=103&amp;hl=en&amp;start=7&amp;um=1&amp;tbnid=67rj-Ktz9NJW4M:&amp;tbnh=133&amp;tbnw=96&amp;prev=/images%3Fq%3Dbag%26um%3D1%26hl%3Den%26sa%3DN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images.google.com/imgres?imgurl=http://www.geekalerts.com/u/small-boombox-bag.jpg&amp;imgrefurl=http://www.geekalerts.com/boombox-bags-for-retro-geeks/&amp;h=435&amp;w=350&amp;sz=30&amp;hl=en&amp;start=2&amp;um=1&amp;tbnid=Y8nqX9RmV4sLeM:&amp;tbnh=126&amp;tbnw=101&amp;prev=/images%3Fq%3Dbag%26um%3D1%26hl%3Den%26sa%3DN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images.google.com/imgres?imgurl=http://www.marloscrochetcorner.com/images/10-4%2520cm%2520felt%2520bag.jpg&amp;imgrefurl=http://www.marloscrochetcorner.com/patterns%2520for%2520sale.html&amp;h=364&amp;w=400&amp;sz=37&amp;hl=en&amp;start=24&amp;um=1&amp;tbnid=2y1g1QiPy2l5HM:&amp;tbnh=113&amp;tbnw=124&amp;prev=/images%3Fq%3Dbag%26start%3D20%26ndsp%3D20%26um%3D1%26hl%3Den%26sa%3DN" TargetMode="External"/><Relationship Id="rId6" Type="http://schemas.openxmlformats.org/officeDocument/2006/relationships/image" Target="../media/image40.jpeg"/><Relationship Id="rId7" Type="http://schemas.openxmlformats.org/officeDocument/2006/relationships/hyperlink" Target="http://images.google.com/imgres?imgurl=http://www.inprintmarden.co.uk/images/bag-manufacturer-uk.jpg&amp;imgrefurl=http://www.inprintmarden.co.uk/bag-manufacturer.html&amp;h=323&amp;w=354&amp;sz=21&amp;hl=en&amp;start=35&amp;um=1&amp;tbnid=NsR4GWh-j3uo2M:&amp;tbnh=110&amp;tbnw=121&amp;prev=/images%3Fq%3Dbag%26start%3D20%26ndsp%3D20%26um%3D1%26hl%3Den%26sa%3DN" TargetMode="External"/><Relationship Id="rId8" Type="http://schemas.openxmlformats.org/officeDocument/2006/relationships/image" Target="../media/image41.jpeg"/><Relationship Id="rId9" Type="http://schemas.openxmlformats.org/officeDocument/2006/relationships/hyperlink" Target="http://images.google.com/imgres?imgurl=http://www.clowncostumes.com/images/Prop%2520Bag.jpg&amp;imgrefurl=http://www.clowncostumes.com/clown_bags_banners.htm&amp;h=951&amp;w=1200&amp;sz=131&amp;hl=en&amp;start=43&amp;um=1&amp;tbnid=2p87YQ2lt5ZazM:&amp;tbnh=119&amp;tbnw=150&amp;prev=/images%3Fq%3Dbag%26start%3D40%26ndsp%3D20%26um%3D1%26hl%3Den%26sa%3DN" TargetMode="External"/><Relationship Id="rId10" Type="http://schemas.openxmlformats.org/officeDocument/2006/relationships/image" Target="../media/image42.jpeg"/><Relationship Id="rId11" Type="http://schemas.openxmlformats.org/officeDocument/2006/relationships/hyperlink" Target="http://images.google.com/imgres?imgurl=http://www.polka-dot-market.com/polka-dot-diaper-bag.jpg&amp;imgrefurl=http://polkadotmarket.blogspot.com/2006_04_01_archive.html&amp;h=520&amp;w=440&amp;sz=28&amp;hl=en&amp;start=136&amp;um=1&amp;tbnid=3QIqL1ChdAXSiM:&amp;tbnh=131&amp;tbnw=111&amp;prev=/images%3Fq%3Dbag%26start%3D120%26ndsp%3D20%26um%3D1%26hl%3Den%26sa%3DN" TargetMode="External"/><Relationship Id="rId12" Type="http://schemas.openxmlformats.org/officeDocument/2006/relationships/image" Target="../media/image43.jpeg"/><Relationship Id="rId1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Synchronize Your Gears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Narrow"/>
              </a:rPr>
              <a:t>What gear are you in?</a:t>
            </a:r>
            <a:br>
              <a:rPr sz="4400"/>
            </a:b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The Relationships of Career Clusters and Program of Study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Cluster – NATIONAL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Human Services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www.careerclusters.org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n organizing tool that groups occupations and careers based on common knowledge and skill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Path – STATE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Human Services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Missouri’s model for career development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Pathway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Early Childhood Development &amp; Services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Listings of occupations that share advanced technical skills and/or common roles within a career cluster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gram of Study </a:t>
            </a:r>
            <a:r>
              <a:rPr b="0" i="1" lang="en-US" sz="1800" spc="-1" strike="noStrike">
                <a:solidFill>
                  <a:srgbClr val="eaeaea"/>
                </a:solidFill>
                <a:latin typeface="Arial Narrow"/>
              </a:rPr>
              <a:t>(To be developed at the local level.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 systematic framework for a new way of doing business in our high schools, colleges, and universitie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ersonal Plan of Study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To be developed at the local level for individual student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 student’s scope and sequence of coursework and co-curricular experiences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hat does this mean….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A student’s personal plan of study should reflect a program of study, but it should also be individualized for that student’s career interest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t’s more than a job, it’s a career choice for student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is provides our students with opportunities to focus on a career path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Establishing career path relevance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can help to justify your program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019920" y="4003560"/>
            <a:ext cx="26668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How Does FCCLA Fit In?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CCLA incorporated into a personal plan of study can develop personal qualities such as leadership and teamwork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eadership skills that students learn in your classroom through FCCLA activities can be assessed and used to further justify your program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657600" y="4876920"/>
            <a:ext cx="297180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TARGET DATE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-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TARGET DATE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e target date for the implementation of this process…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Within the next 3 year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486400" y="2971800"/>
            <a:ext cx="2514600" cy="2125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209680" y="3505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What does this mean for you?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Refresh, Energize, and Unite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You don’t have to make these changes on your own…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amily and Consumer Sciences teachers will have the opportunity to support and encourage each other in the design and implementation of curriculum and programs of study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724280" y="3962520"/>
            <a:ext cx="312444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ll Family and Consumer Sciences programs across the state will be united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IN THIS TOGETHER!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mall and Large Family &amp; Consumer Science Program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ural, Urban, and Inner City Family &amp; Consumer Science Program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276720" y="4495680"/>
            <a:ext cx="1752480" cy="1419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4419720"/>
            <a:ext cx="1206360" cy="1809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1371600" y="4495680"/>
            <a:ext cx="1523880" cy="1449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6705720" y="449568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Reinforcing What We’re Already Using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Use scoring guides to assess your lessons to increase depth of learning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REE Scoring guides are available at mcce.org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igor, Relevance, and Relationship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ritical Thinking Skill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CCLA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410080" y="4191120"/>
            <a:ext cx="24386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e Want To Challenge You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Get into gear…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Arial Narrow"/>
              </a:rPr>
              <a:t>As Missouri seamlessly adopts the National Standards, this means…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Narrow"/>
              </a:rPr>
              <a:t>You will have fewer but broader standards to teach.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Narrow"/>
              </a:rPr>
              <a:t>More individuality in lesson                   plan design.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7010280" y="46483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14400" y="228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 Narrow"/>
              </a:rPr>
              <a:t>It is imperative that what you teach builds a family foundation AND leads to a career.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et it be known that what you are teaching…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Leads to a care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s part of the solution to family life issues that are happening all over the nation 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0880" y="3733920"/>
            <a:ext cx="2657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ankrupc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3352680"/>
            <a:ext cx="1523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besit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019920" y="5257800"/>
            <a:ext cx="2514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im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nage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657600" y="3809880"/>
            <a:ext cx="1295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vorc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295280" y="4724280"/>
            <a:ext cx="24386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hild Abus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962520" y="4952880"/>
            <a:ext cx="25905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ubstance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bus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172200" y="3733920"/>
            <a:ext cx="23432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ncarceration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7720" y="137124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hat does YOUR community need?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ind out…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dvisory committe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Career data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Employability skills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igh Skill, High Wage, or High Demand occupations is our target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 need to teach what data indicates is needed, not what we traditionally like or are comfortable teaching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Data Drives What is Taught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019920" y="1676520"/>
            <a:ext cx="266688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The Big Picture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Where we’ve been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Where we are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Where we are going. 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73392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ork of the Family</a:t>
            </a: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e ultimate human service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100% demand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886200" y="2590920"/>
            <a:ext cx="464832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Know Your Stuff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30 Second Elevator Speech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Be ready to talk with counselor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Be ready to talk with administrator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Be ready to talk with parent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Be ready to talk with student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Be ready……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876920" y="4419720"/>
            <a:ext cx="28191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Elevator Speech / 30 Second Speech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omponents of Work &amp; Family Life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Relationship Skill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Human Development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Health &amp; Wellnes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inancial Competence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Leadership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Critical Thinking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Problem Solving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181480" y="2362320"/>
            <a:ext cx="1868760" cy="1952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5638680" y="4038480"/>
            <a:ext cx="274320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066680" y="304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tudents can explore several career clusters and are employed in a variety of job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Human Service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Education &amp; Training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Hospitality &amp; Tourism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Art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Manufacturing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Sale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447920" y="46483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29200" y="5029200"/>
            <a:ext cx="1038240" cy="1123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3429000" y="40384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6629400" y="4724280"/>
            <a:ext cx="1828800" cy="12924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6705720" y="1066680"/>
            <a:ext cx="186840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907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n addition, an integral part of the Family and Consumer Sciences curriculum is the student organization Family, Career &amp; Community Leaders of America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Learning leadership skills through FCCLA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3886200"/>
            <a:ext cx="1868400" cy="1952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495680" y="4038480"/>
            <a:ext cx="29718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Gear Up For Regional Training…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Programs of Study Module Training Seminars will be offered throughout the region. Be watching for upcoming training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gram &amp; Courses – A New Look &amp; Curriculum Writing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grams of Study Models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istory &amp; Rationale for Chang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eadership Skill Developme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ow to Develop a Program of Stud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reating Articulation Agreement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867280" y="3886200"/>
            <a:ext cx="289584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Program &amp; Courses – A New Look &amp; Curriculum Writing</a:t>
            </a:r>
            <a:br>
              <a:rPr sz="4000"/>
            </a:b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this training module, you will learn…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here to find market data (used to drive your program)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ow to contact your technical prep person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vailability of developed Programs of Study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haring programs of study district to district, school to schoo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You don’t have to re-invent the whe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ligning curriculum to Missouri Competencies and National Standard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Making sure that you include rigor,                                     relevance, and relationships in your                              curriculum offerings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641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Leadership Skill Development</a:t>
            </a:r>
            <a:br>
              <a:rPr sz="4000"/>
            </a:b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n this training module you will learn about…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Core Leadership Skills Components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he student benefits of leadership skill development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he community/school benefits of leadership skills development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Be sure to attend the leadership skill module as we have new specific leadership skills that need to be taught and assessed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76720" y="4691160"/>
            <a:ext cx="4286160" cy="21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eadership Skill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1295280" y="5181480"/>
            <a:ext cx="137160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How to Develop a Program of Study</a:t>
            </a:r>
            <a:br>
              <a:rPr sz="4000"/>
            </a:b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this training module you will learn…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 10 step process to implementing the program of study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tart to finish, how to put a program of study in place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How to recognize gaps and                                          overlaps in your current curriculum                             offerings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343480" y="1676520"/>
          <a:ext cx="317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3480" y="1676520"/>
                    <a:ext cx="317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History &amp; Rationale for Change</a:t>
            </a:r>
            <a:br>
              <a:rPr sz="4000"/>
            </a:b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this training module you will learn about…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 reasons for the chang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ederal, State, and Perkins legislation is driving these changes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ocietal changes drives curriculum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Labor market data drives what is being taught and offered.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uture will be family focused, career focused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Increase rigor, relevance, and relationships.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Improves Family and Consumer Sciences programs to prepare students for a viable career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952880" y="4648320"/>
            <a:ext cx="320040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Family &amp; Consumer Sciences – </a:t>
            </a:r>
            <a:br>
              <a:rPr sz="4000"/>
            </a:br>
            <a:r>
              <a:rPr b="0" lang="en-US" sz="3600" spc="-1" strike="noStrike">
                <a:solidFill>
                  <a:srgbClr val="ebd189"/>
                </a:solidFill>
                <a:latin typeface="Impact"/>
              </a:rPr>
              <a:t>Be proud of what’s been accomplished!</a:t>
            </a:r>
            <a:endParaRPr b="0" lang="en-US" sz="36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 Narrow"/>
              </a:rPr>
              <a:t>Then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 Narrow"/>
              </a:rPr>
              <a:t>Now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 Narrow"/>
              </a:rPr>
              <a:t>Life Expectancy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47.3 years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77.8 year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 Narrow"/>
              </a:rPr>
              <a:t>Education Beyond High School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.9%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26.6%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 Narrow"/>
              </a:rPr>
              <a:t>Goals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mprove Quality of Life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Prepare students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   for the work of            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    the family and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career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2895480"/>
            <a:ext cx="4876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4038480"/>
            <a:ext cx="4876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5486400"/>
            <a:ext cx="4876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Creating Articulation Agreements</a:t>
            </a:r>
            <a:br>
              <a:rPr sz="4000"/>
            </a:b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 this training module you will get information regarding the benefits and process of articulation: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Looking at how articulation will help you to develop your programs of study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Recognize that this is a good thing for our students and our state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his will help you to get administrative support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his will enable you to formulate collaborative groups to approach universities and junior/community colleges together to match up credit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181480" y="4648320"/>
            <a:ext cx="1424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Programs of Study Models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- THE FINAL LINK -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n this training module, you will learn…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How to put together all of the training pieces you’ve learned at the different training module workshops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ow the components of the program of study will work for students in the community where you teach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Making a seamless educational program offering your students more opportunities.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Helping students link current coursework with possible career pathways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724280" y="5257800"/>
            <a:ext cx="1600200" cy="12700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934320" y="457200"/>
            <a:ext cx="160020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So….now what? 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What do we do with all of 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this information?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4876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ritical thinking, problem solving, and the process skills are still just as important as ever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ey are the </a:t>
            </a: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foundation 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f our curriculum.  It’s easy to say we are using these skills every day in our classrooms but are we REALLY?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cab40"/>
              </a:buClr>
              <a:buSzPct val="4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re we challenging our students each and every day to be an innovative and authentic learner?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867280" y="2514600"/>
            <a:ext cx="2921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4267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t’s important that as leaders in the model for what education </a:t>
            </a: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should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be that each and every one of us remains constant in our teaching of these skills – remember we are models to others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We want to maintain our status as leaders of innovative thinking.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Each person needs to stay diligent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30481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Be a Gear Head – Bag Your Stuff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Be sure to keep all of the hand outs and information you get regarding these topics in the same location for easy acces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3048120"/>
            <a:ext cx="914400" cy="12668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9320" y="3276720"/>
            <a:ext cx="1342800" cy="16761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4572000"/>
            <a:ext cx="1752480" cy="15969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24280" y="3505320"/>
            <a:ext cx="1152720" cy="10476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57800" y="4800600"/>
            <a:ext cx="1752480" cy="13906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391520" y="4572000"/>
            <a:ext cx="13158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Remember……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ALL on the same path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You are not alone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ALL in this together.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876920" y="3352680"/>
            <a:ext cx="3352680" cy="29005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523880" y="3657600"/>
            <a:ext cx="3124440" cy="24559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6324480" y="533520"/>
            <a:ext cx="18637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0" y="177840"/>
          <a:ext cx="9144000" cy="650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840"/>
                    <a:ext cx="9144000" cy="65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Gears in the System…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Birth-12 Certifica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Individual and Famil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ommunity and Care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cess Skill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amily Focus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areer Focus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ual Purpose Cours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Show Me Goals and Standard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FCCL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grams of Stud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11480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Program of Study (POS)  -</a:t>
            </a:r>
            <a:br>
              <a:rPr sz="4000"/>
            </a:b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	</a:t>
            </a:r>
            <a:r>
              <a:rPr b="0" lang="en-US" sz="4000" spc="-1" strike="noStrike">
                <a:solidFill>
                  <a:srgbClr val="ebd189"/>
                </a:solidFill>
                <a:latin typeface="Impact"/>
              </a:rPr>
              <a:t>                                     NOT a Dirty Word!</a:t>
            </a:r>
            <a:endParaRPr b="0" lang="en-US" sz="40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ahead of other curriculum area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We are LEADERS and we want to stay that way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rogram credibility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Missouri is the process of seamlessly adopting National Family and Consumer Sciences Standard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ebd189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National end of year assessments will be put in place at the local level by 2011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Focusing on a career path will provide more opportunities for your students AND your Family and Consumer Sciences program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We need to have this in place, ready to go, because as you well know, Family and Consumer Sciences programs are constantly under scrutiny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289548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Impact"/>
              </a:rPr>
              <a:t>What Does POS Mean to You?</a:t>
            </a:r>
            <a:endParaRPr b="0" lang="en-US" sz="4400" spc="-1" strike="noStrike">
              <a:solidFill>
                <a:srgbClr val="ebd189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Missouri has chosen the Career Clusters Framework to organize and implement its programs of study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0" y="2971800"/>
            <a:ext cx="36576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1922400" y="0"/>
          <a:ext cx="512460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0" y="0"/>
                    <a:ext cx="51246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 flipV="1">
            <a:off x="5410080" y="2209680"/>
            <a:ext cx="2286000" cy="4572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1828800"/>
            <a:ext cx="10666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areer Path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248520" y="761760"/>
            <a:ext cx="1600200" cy="759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7924680" y="457200"/>
            <a:ext cx="9144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areer</a:t>
            </a: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luster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3352680"/>
            <a:ext cx="91440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5" name=""/>
          <p:cNvSpPr/>
          <p:nvPr/>
        </p:nvSpPr>
        <p:spPr>
          <a:xfrm>
            <a:off x="7467480" y="3200400"/>
            <a:ext cx="106704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ab40"/>
                </a:solidFill>
                <a:latin typeface="Arial Narrow"/>
              </a:rPr>
              <a:t>Career Pathwa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20:33:37Z</dcterms:created>
  <dc:creator>Carthage R9</dc:creator>
  <dc:description/>
  <cp:keywords/>
  <dc:language>en-US</dc:language>
  <cp:lastModifiedBy>Carthage R9</cp:lastModifiedBy>
  <dcterms:modified xsi:type="dcterms:W3CDTF">2008-04-15T18:35:23Z</dcterms:modified>
  <cp:revision>7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81033</vt:lpwstr>
  </property>
</Properties>
</file>